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1A15-AAA5-4AFC-97EB-416A9317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8FBD-0402-413D-BD4D-A5FF5EA8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0EDE-1BA9-4354-B87D-B9BF3699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4711-FC4C-4034-B30D-447586CC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8DE2-9FDF-4ACD-928D-38243607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1EEC-13CD-4BF6-8457-C32BB4C9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EE50-A2A4-488F-93AE-24256300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9981-EEEC-48B8-903D-A7FC7EF7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44FD-852C-4D09-BBAF-DBEEC818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4D18-618D-457F-879B-967D7A00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D1A7-5C0E-46A7-BB7E-13911A92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1DBC-C140-401D-9AC8-C54BAB9F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85C7-5ED7-4AC5-A450-1DD147E0A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205740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predni kurs o visokotehnološkom kriminalu za sudije i tužio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zentacija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premanju predmeta za su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ključujući metode prezentacije dok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801540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obine digitalnih dokaza u sud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obine digitalnih dokaza u su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dije (još uvek) nisu navikle na digitalne doka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postojana priroda digitalnih dokaza mora da bude promenjena u novim osobin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edeće osobine su obavez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rihvatljiv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Verodostoj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reciznost (i kompletn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alni dokazi moraju da budu uverlj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idacija digitalnih podat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egorizujte i struktuirajte digitalne dokaze (u tri gru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pisi radnji koje sadrže sadržaj pisan od strane jednog ili više ljud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a primer e-mejlovi, Word datoteke, instant poru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pisi koje generiše računar bez ikakvih ulaznih podataka unetih od strane čovek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a primer logovi podataka, transakcije na bankomatima, telefonske veze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pisi koji se sastoje od mešavine unetih podataka i kalkulacija koje generiše i skladišti račun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a primer finansijske tabe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roda dokaza koji su dostupni sudu kako bi se odredila verodostojnost digitalnih podataka će se razlikovati od slučaja do sluč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→ važna uloga specijalista/stručnjaka za digitalne doka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azivanje verodostoj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datak je strane koja traži da dokaz bude prihvaćen da pripremi i prezentuje dokaze o verodostojnosti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kažite istoriju postupanja s podacima, uključujuć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a su podaci deo evidencije čuvanja doka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a podaci nisu menjani bez ovlašćenja između trenutka kada su generisani ili dodati u evidenciju i trenutka kada postaju neophodni, što znač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kažite integri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kažite pouzda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alaženje s jurisdikcijom i dokazima iz stranih zema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ezbedite celovitost, prihvatljivost i zakonitost dokaza iz drugih zemalja (koja pravila važe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dite u stanju da sudiji objasnite pitanje jurisdik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jte u vidu nacionalnost dokaz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Šta je teritorijalnost i ekstrateritorijanost u sajber-prostor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e su dokazi prikupljeni, i da li mi znam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kupite dokaze iz drugih zemalja pute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molnica zaUPP kada je to potreb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zentacija digitalnih dokaz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šta pit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kaze će osporiti odbra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Imajte u vidu alternativna objašnjenja doka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Imajte u vidu tehnička pitanja koja bi mogla da pokrene odbr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uzdanost IP identifikacije (Ipv4-Ipv6, carrier Grade NAT,..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orija zavere, nezaštićene wireless mreže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koliko se sami dokazi ne mogu pobiti, lice koje ih je prikupilo i način na koji su prikupljeni će biti ospore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tručnjak-policaj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tručnjak za digitalnu forenz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Član 6 Evropske konvencije o ljudskim pravima – Pravo na pravično suđe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s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zmite u obzir stepen specijaliza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padnici policije (razmotrite da li da ih pozivate 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vojstvu vešta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ni tužio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dije (poslednji, ali ne i najmanje bit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zgradite stepen: prvo Internet za glupake, nakon toga Internet za stručnj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kumentujte svaki korak i prikažite logiku događ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 izazivajte argumente – nemojte zbunjivati sud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redite brzi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št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jalizovani pripadnici policij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edinice za računarski krimi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štaci specijalizovani za digitalnu forenziku koje poziva tužilac ili sudija, a koji n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Stručnost u relevantnoj obla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Iskustvo u relevantnoj obla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Znanje istražnih radn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Kontekstualno iskustvo i zn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ravna zn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Veštine komunik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št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kazi koje prezentuje forenzički veštak moraju da imaju sledeće osobine kako bi se moglo obezbediti ispravno tumačenje pred su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ouzd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nepristras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jas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ezbedite sistem evidencije kvalifikovanih veštaka o kojima bi se stranke mogle da sag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ljevi ses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kraju ove sesije, učesnici će biti u stanju 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kuju procesuiranj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ikupljaju dokaze iz drugih drž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z pomoć molbi za uzajamnu pravnu pomo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ezbeđuju d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 postoje pravne ili proceduralne preprek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bama za doka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upaju sa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vedocima iz drugih jurisdikcij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kom krivičnog postup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z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mpletiraju ili ažuriraj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ve relevantne isprave i postup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ezbede da budu pripremljeni odgovarajući dosijei i druge isprave, i da ih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ezentuju u traženom formatu u relevatnim rokov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kriju dokaz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bra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koliko je potreb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upaju sa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ihvatljivošću elektronskih i drigih dok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ezbe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štovanje Evropske konvencije o ljudskim pravi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drugih prop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aju ulogu i očekivanja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vešt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puno dokumentuj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ve odluke, radnje, opcije i argumentaciju u skladu s važećom politikom i zakonskim propis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oznaju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tode prezentac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lektronskih dokaza u sudskim postup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zent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zmotrite metode prezent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zmite u obzir mogućnost PPT prezet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zmislite o kratkom objašnjenju o elektronskim dokazim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tehnologiji relevantnim za predmet, kako biste ustanovil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za one koji su u su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nudite leksikon (opšte prihvatlji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nudite kratak pregled predmeta i doka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kažite doka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zent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da pravni sistem i sredstva to dozvo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nudite digitalan primerak dosij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site u sud tehnologije prezent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značajnim predmetima, predstavite dokaze strankama n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čunarskim monitorima tako da ne morate da štamp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one stra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kažite sudu osumnjičenu mašinu ili sliku kako biste mogli d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kažete prisustvo dokaza na sistemu ili da budete 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gućnosti da pokažete kako je krivično delo izvrš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gled ciljeva ses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kraju ove sesije, učesnici će biti u stanju 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kuju procesuiranj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kupljaju dokaze iz drugih država uz pomoć molbi za uzajamnu pravnu pomo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ezbeđuju d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 postoje pravne ili proceduralne preprek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bama za doka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upaju sa svedocima iz drugih jurisdikcija tokom krivičnog postup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z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mpletiraju ili ažuriraj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ve relevantne isprave i postup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ezbede da budu pripremljeni odgovarajući dosijei i druge isprave, i da ih prezentuju u traženom formatu u relevatnim rokov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kriju dokaz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bra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koliko je potreb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upaju sa prihvatljivošću elektronskih i drigih dok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ezbe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štovanje Evropske konvencije o ljudskim pravi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drugih prop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aju ulogu i očekivanja vešt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puno dokumentuj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ve odluke, radnje, opcije i argumentaciju u skladu s važećom politikom i zakonskim propis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oznaju metode prezentacije elektronskih dokaza u sudskim postup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396252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I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147840" y="503280"/>
            <a:ext cx="28483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jte u vidu nestalnost digitalnih doka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Čuvanje podataka u Evrop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ma Direktivi 2006/24/EC Evropskog parlamenta 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ta od 15. marta 2006. god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ržave članice su dužne da obezbede da 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ategorije podataka određene članom 5  čuvaju n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nje od šest meseci niti više od dve godine o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uma komunikacije.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stara » roka čuvanja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da ste već u sudu, nećete imati drugu pril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VEK IMAJTE U VIDU DA NEKO MOŽE DA BUDE NEV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84040"/>
            <a:ext cx="822960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tupak pred sud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ombinovanje najboljeg iz oba sv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kuzatorni pris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kvizitorni pris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pravljanje krivičnim postupk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kvali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kvanti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 minimis non curat prae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je bi moglo da bude viš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premenanj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meta za su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premanje predmeta za s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činite plan procesuir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izno kompletirajte ili ažurirajte sve relevantne isprave i postup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ezbedite da su odgovarajući dosijei i relevantna dokumentacija pripremljeni, i prezentujte ih u relevantnim rokov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krijte dokaze odbr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ezbedite da ne postoje pravne ili proceduralne prepreke zahtevima za dokaz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kumentujte u potpunosti sve odluke, radnje, opcije i argumentaciju u skladu s važećom politikom i zakonskim propis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erite i proverite ponovo digitalne doka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obine digitalni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kaza u sajber-prosto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obine digitalnih dokaza u sajber-prost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i sa digitralnim dokaz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nepostoj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laki za manipul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teški za pribavlj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teško dokazati poreklo i verodostoj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ne poznaju teritorijalne gra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alaženje s prirodom digitalnih dok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S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Nepostojan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Budite brzi i informisani 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isima o zadržavan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ataka širom sve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ko za manipulisanj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bezbedite integri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ško za pribavljanj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Koristite domaće pravo, upite za UPP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, EJN, kontaktne tačke Savet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rope, GPEN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ško dokazati porekl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okumentujte u potpunosti sve radnje, i verodostojno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hteve i forenzičke rad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Nema teritorijalnih grani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oštujte pravila prekograničn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rad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3:22:07Z</dcterms:created>
  <dc:creator>Master</dc:creator>
  <dc:description/>
  <dc:language>en-US</dc:language>
  <cp:lastModifiedBy>Master</cp:lastModifiedBy>
  <dcterms:modified xsi:type="dcterms:W3CDTF">2013-09-12T14:00:26Z</dcterms:modified>
  <cp:revision>11</cp:revision>
  <dc:subject/>
  <dc:title>Slide 1</dc:title>
</cp:coreProperties>
</file>